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309-587F-4629-AC8D-E955C137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998-945E-4293-ADD0-5620BD1A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F7A-B248-4524-AA1E-51C5474C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B82-99F0-4DD9-993F-0C5E2F21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2BB-7F65-40D1-96F6-484088A8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311-13CC-409A-9073-96378B8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9DD-90CF-4CB7-85C6-454C73DB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E41-A05C-4262-A4FF-81A8A482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F05-41D6-4C26-95BB-2BAC4408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D10-9D12-4AA2-BC41-37FF3E4B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B6C-E8C3-480A-B517-8872CF5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E05-3AF4-45B9-A786-1A00C54B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900A-3705-47EA-96FE-C218F755E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azonas.am.gov.br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evantamento de Informações e Subsídios para a Elaboração de um Programa Nacional de Desenvolvimento e Capacitação de Recursos Humanos em Saneamento Ambiental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3434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ARCELO DE PAULA NEVES LELI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CIDADES/PMSS</a:t>
            </a:r>
            <a:br>
              <a:rPr sz="2000"/>
            </a:br>
            <a:br>
              <a:rPr sz="1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571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asília / DF, 17 de agosto de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76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270920" y="1600200"/>
          <a:ext cx="187308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70920" y="1600200"/>
                    <a:ext cx="1873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422720" y="0"/>
            <a:ext cx="68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ério das Cidad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 Nacional de Saneamento Ambi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a de Modernização do Setor Saneamento - PM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logo-pmss" descr=""/>
          <p:cNvPicPr/>
          <p:nvPr/>
        </p:nvPicPr>
        <p:blipFill>
          <a:blip r:embed="rId4"/>
          <a:stretch/>
        </p:blipFill>
        <p:spPr>
          <a:xfrm>
            <a:off x="152280" y="838080"/>
            <a:ext cx="1228680" cy="552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905120"/>
            <a:ext cx="2362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 GER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r informações sobre o perfil da demanda e oferta existente no setor de saneamento ambiental quanto às necessidades de formação profissional e capacitação, qualificando os seguinte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úblico-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á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strutura Pedag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financiamen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ornecer subsídios ao Grupo de Trabalho – GT, criado para desenvolver uma proposta de política de capacitação para o setor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undamentar os termos dos Acordos de Cooperação Técnica Internacion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Verificar a hipótese trabalhada no Estudo de Viabilidade que aborda a necessidade de se criar no Brasil um Centro de Formação Profissional em Águas, tendo como referência o Centro de Capacitação em Limoges, na França,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nalisar a convergência ou não entre a infra-estrutura e capacidades pedagógicas instaladas no país e a demanda por formação profissional e capacitação identificada no estudo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CEPÇÃO DO ESTU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 estudo fundamenta-se nas seguintes diretriz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brangência temá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Ênfase de abordag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ementos norte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o condutor analít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) identificar a demanda existente por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primoramento profissional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e por criação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ovas competênci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para cada uma das modalidades do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b) analisar a convergência (ou não) entr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manda e ofer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disponível de estruturas de ensino no paí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) indicar as possibilidades de parceria para se formar uma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de de capacit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) utilizar as informações obtidas para identificar as disponibilidades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ntrapartid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regionais e institucionais capazes de viabilizar centros de formação e capacitação no Brasi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mento de dados e informações sobre público-alvo, demandas temáticas e estrutura pedagógica instal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consulta e pesquis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)Entidades do setor que trabalham com programas de capacita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) Rede de ensino formal na área de saneamento ambient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entros de pesquisa que oferecem programas de capacitação e de reciclagem profissional na área de saneamento ambiental e de recursos hídricos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Órgãos do governo federal que desenvolvem projetos, estudos e ações relacionados com o assunto objeto do Estudo e correl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Instrumentos de pesquis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ári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ntrevista presencial (*)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nsultas diversas a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websit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, documentos, biblioteca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sitas programad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entrevista presencial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rasília–D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MCIDADES (PNCC, SNSA, PNCDA, PROCEL, PMSS); MMA; ANA/MMA; MIN; FUNASA; MCT, ASSEMAE*; AESBE; CAESB; UnB; SISTEMA “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SABESP; CETESB; USP/Faculdade de Saúde Pública; São Carlos; Franca; SANASA/Campinas; IPT; CEFET; ETESP; Fórum Nacional Lixo e Cidadania/Água e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ABES; IBAM; PROSAB/FINEP; UFRJ/COPPE; CED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Campina Grande/UF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GAGECE - Fortale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EMBASA - Salv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DESA/UFMG; CETEC; COPASA; PBH; ASM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UFRGS/IP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OMPANHAMENTO E SUPERVISÃO DOS TRABALH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acompanhamento e a supervisão do desenvolvimento do Estudo será feito pelo Grupo de Trabalho – GT, de composição interministerial, criado para propor uma política nacional de desenvolvimento e capacitação de recursos humanos em saneamento ambiental. Etapas a serem cumpri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º) Aprovação do Plano de Trabalho: 11/08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º) Apresentação dos resultados do levantamento de campo com os dados e informações sobre Público-Alvo, Demandas Temáticas e Estrutura Pedagógica: 05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º) Apresentação do Estudo em sua versão preliminar: 23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º) Apresentação e Entrega do Estu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grupo ampliado):período ent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6 e 10/12/20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3:33:03Z</dcterms:created>
  <dc:creator>.</dc:creator>
  <dc:description/>
  <dc:language>en-US</dc:language>
  <cp:lastModifiedBy>IPEA</cp:lastModifiedBy>
  <dcterms:modified xsi:type="dcterms:W3CDTF">2004-09-16T21:32:45Z</dcterms:modified>
  <cp:revision>700</cp:revision>
  <dc:subject/>
  <dc:title>AVALIAÇÃO DE PERDAS EM SISTEMAS DE ABASTECIMENTO DE ÁGUA – INDICADORES DE PERDAS E METODOLOGIAS PARA ANÁLISE DE CONFIABILIDADE </dc:title>
</cp:coreProperties>
</file>